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E2AEF-C1E9-441B-8D14-2DEA7E4FC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 http://biology.kenyon.edu/courses/biol114/KH_lecture_images/How_DNA_works/how_DNA-work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textbookofbacteriology.net/phage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discovermagazine.com/2009/apr/28-next-miracle-antibiotic-could-spawn-next-superb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forbes.com/sites/daviddisalvo/2011/11/22/whats-your-dna-worth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casciottichr.edu.glogster.com/ch-11-glo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ss physic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uni-tuebingen.de/ziegler/history/friedrich_miescher/friedrich_miesche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thefullwiki.org/Griffiths_experiment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B5C9-9F04-4849-A48F-16034AE22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E36D-18F1-4AEE-BB1C-C65A046E8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C94A-0616-4712-B6AE-A33528113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A5AA-B72C-4406-B5E0-30AD02893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855A-1F2D-48F4-9921-0F802A711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52FA-C26E-45EA-B10C-77F9752A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96E4-AC92-47A7-9F06-25D8FA06D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01E8-F7EC-491D-A242-0DF8EB067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100A-47D5-4F0C-A997-E9E1CB767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65AB-2136-440B-933F-4B7B1405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EC98-11C2-4FC1-8AFB-3CF1E461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637E-8220-421D-BC3F-917744F9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7BA87-A24B-40CC-835F-D8D204680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highered.mcgraw-hill.com/sites/0072437316/student_view0/chapter14/animations.html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dnaftb.org/dnaftb/15/concept/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inauer.com/cooper5e/animation0402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olecular Basis of Inheri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18000" y="2897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very, McLeod, McCar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484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fred Hershey &amp; Martha Chase (195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in or DN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s with virus:  bacteriophage T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648320" y="2784600"/>
            <a:ext cx="380988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407960" y="609480"/>
            <a:ext cx="6328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108160" y="609480"/>
            <a:ext cx="4925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or Prote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rrated animation of Hershey &amp; Chase experi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highered.mcgraw-hill.com/sites/0072437316/student_view0/chapter14/animations.html#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N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gor Men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922480" y="1981080"/>
            <a:ext cx="3299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s &amp; Con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ic DNA vs. prokaryotic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Structure &amp; Functio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derick Miesc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192480" y="1981080"/>
            <a:ext cx="2757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iedrich Miescher (186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ed in the composition of the cell nuc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ed used bandages from hospitals and isolated a substance he called “nuclei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naftb.org/dnaftb/15/concept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derick Griffith (192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116080" y="1981080"/>
            <a:ext cx="4911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rrated animation of what occurred in bacterial cells (keeping in mind that Griffith wouldn’t have understood the mechanism in this much detail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inauer.com/cooper5e/animation0402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2T10:16:36Z</dcterms:created>
  <dc:creator>rubina khan</dc:creator>
  <dc:description/>
  <cp:keywords/>
  <dc:language>en-US</dc:language>
  <cp:lastModifiedBy>rubina khan</cp:lastModifiedBy>
  <dcterms:modified xsi:type="dcterms:W3CDTF">2012-04-14T02:40:38Z</dcterms:modified>
  <cp:revision>95</cp:revision>
  <dc:subject/>
  <dc:title>Molecular Genetics</dc:title>
</cp:coreProperties>
</file>